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23.jpeg" ContentType="image/jpeg"/>
  <Override PartName="/ppt/media/image20.png" ContentType="image/png"/>
  <Override PartName="/ppt/media/image2.jpeg" ContentType="image/jpeg"/>
  <Override PartName="/ppt/media/image5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BCFBB-7885-451D-9032-093A943ED7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5F9DC-605A-49F9-97D3-8031351599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F4D1A-145C-4BF9-B759-83089571BD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663DC-354F-46D0-B51F-8B1027B48D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8EB1E-E8E0-4440-88A9-7E600A9DA8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0E25C-877A-4027-9890-C73F4201B4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AC663-DB04-4562-AD49-FD42400477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7C2C1-DE64-4662-AF39-4F4C30582D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353DA-F2FB-4A89-8205-C73D22443C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ACECC-0590-4DB8-9920-83829E1D03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031B6-920B-422E-8B45-2A808CD2A5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88121-6B94-4D77-982E-A0E0CC37B6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5AAFA-2451-40A9-8E42-899D0BC5B0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74EAF-9252-44CA-8C1B-BEA3B599FF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48622-8A2A-4730-AD9A-3EA93F01A3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A0AC7-5476-466B-9CA0-0EF9E18C05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2BEA4-FB5E-45A7-9584-64510E08B8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4BAD1-0A23-4D60-BEDF-50134C7692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FECE2-282E-4304-80F6-859E5D0F60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167CB-C2B8-4636-88A8-5160E44376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3F658-1A8E-4382-9474-93960B77A9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86E5-D569-4C0D-A0F8-AE3807E1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3A5-825C-4A4B-A43E-AAC6CCF4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9ED-A09E-4045-B9D8-C9A4D519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E5C-436D-4984-ACEA-73F1C469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37AE-A592-4812-BD8E-B489C165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FCC3-FE86-4990-A7E8-62E3777E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CFA-64A5-4094-B735-605F0C8B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1AA-529B-4491-9616-DBCF9EEA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85E-4029-48E0-B35E-8AEF7F0A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7EF1-84FD-4C87-98CE-399B87AA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F342-1B38-4581-B6C2-53A7505C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328-45AB-4FDE-9E4C-7D1CDEE2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CA44E5-7AFD-42ED-ADE1-B1D1F9725D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6720" y="848880"/>
            <a:ext cx="6215040" cy="260532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Arial"/>
              </a:rPr>
              <a:t>Метаболизм  липидов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29080" y="4222800"/>
            <a:ext cx="655128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5969160" y="3065400"/>
            <a:ext cx="3600360" cy="3240000"/>
          </a:xfrm>
          <a:prstGeom prst="rect">
            <a:avLst/>
          </a:prstGeom>
          <a:ln w="0">
            <a:noFill/>
          </a:ln>
        </p:spPr>
      </p:pic>
      <p:sp>
        <p:nvSpPr>
          <p:cNvPr id="51" name="Line 4"/>
          <p:cNvSpPr/>
          <p:nvPr/>
        </p:nvSpPr>
        <p:spPr>
          <a:xfrm>
            <a:off x="5940360" y="1260360"/>
            <a:ext cx="180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5940360" y="1260360"/>
            <a:ext cx="3600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 flipV="1">
            <a:off x="9539280" y="1258560"/>
            <a:ext cx="1440" cy="32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60200" y="106200"/>
            <a:ext cx="9772920" cy="7334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60360" y="3419640"/>
            <a:ext cx="7740720" cy="38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Impact"/>
              </a:rPr>
              <a:t>Гидролиз жиров — первая фаза обмена жир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3060720" y="900000"/>
            <a:ext cx="4140360" cy="3240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184320" y="115920"/>
            <a:ext cx="9724680" cy="7315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979640" y="1800360"/>
            <a:ext cx="6119640" cy="33969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84320" y="115920"/>
            <a:ext cx="9724680" cy="7315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7019640" cy="414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5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60360" y="820800"/>
            <a:ext cx="561672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спад глицерина и высших жирных кислот — вторая фаза обм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жиров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859280" y="3060720"/>
            <a:ext cx="4319640" cy="3959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9280" y="1490400"/>
            <a:ext cx="899964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33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ОН                           СН</a:t>
            </a:r>
            <a:r>
              <a:rPr b="1" lang="ru-RU" sz="3200" spc="-1" strike="noStrike" baseline="-33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ОН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-ОН     +АТФ                   СН-ОН      +АД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33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ОН                                       ОН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200" spc="-1" strike="noStrike" baseline="-33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О-Р=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4140360" y="324000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959280" y="2879640"/>
            <a:ext cx="19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ицеролкин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7645320" y="3884760"/>
            <a:ext cx="12960" cy="149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7678800" y="4344840"/>
            <a:ext cx="1440" cy="18108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0" y="115920"/>
            <a:ext cx="10080720" cy="7445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9640" y="1768320"/>
            <a:ext cx="903600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Обмен ацетил-Ко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4411800" cy="1895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5792760" y="900000"/>
            <a:ext cx="2847960" cy="1609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9280" y="126036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Метаболизм включает широкий спектр химических реакций, большинство из которых относятся к нескольким основным типам реакций переноса функциональных групп. Для переноса функциональных групп между ферментами, катализирующими химические реакции, используются коферм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800000" y="3600360"/>
            <a:ext cx="6840360" cy="33386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b80047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b80047"/>
                </a:solidFill>
                <a:latin typeface="Arial"/>
              </a:rPr>
              <a:t>Структура кофермента Ацетил-КоА. Ацетильная группа связана с атомом серы по левому кра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1979640" y="1079640"/>
            <a:ext cx="5759280" cy="2879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538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ощённая схема катаболизма белков, сахаров и липид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2700360" y="2340000"/>
            <a:ext cx="4675320" cy="40165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68000" y="3501720"/>
            <a:ext cx="90709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мен липидов касается достаточно энергично протекающего процесса межмембранного переноса липидов, особенно фосфолипидов, из митохондрий в ЭПС и обратно, из мембранной фракции клетки в липосомы и т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2886120" y="411120"/>
            <a:ext cx="4983120" cy="3176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280" y="410760"/>
            <a:ext cx="907092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Липиды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жиры и жироподобные вещества, являющиеся производными высших жирных кислот, высших жирных спиртов или высших жирных альдегидов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Как правило, это низкомолекулярные  жирорастворимые  органические  вещества,  которые  извлекаются  из клеток  животных,  растений  и  микроорганизмов  неполярными растворител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700360" y="3959280"/>
            <a:ext cx="4456080" cy="2928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8920" y="642600"/>
            <a:ext cx="5435640" cy="5468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ение этого обновления и видоизменения липидного состава мембран огромно, так как при его посредстве регулируется метаболическая активность мембранного аппарата клетки и субклеточных струк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539640" y="107964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3060720" cy="2519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-27000"/>
            <a:ext cx="10078920" cy="7405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79160" y="157140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Основные биологические функции липидов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24"/>
              </a:spcBef>
              <a:spcAft>
                <a:spcPts val="224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вные компоненты биологических мембран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24"/>
              </a:spcBef>
              <a:spcAft>
                <a:spcPts val="224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асной, изолирующий и защищающий органы материа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24"/>
              </a:spcBef>
              <a:spcAft>
                <a:spcPts val="224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иболее калорийная часть пищ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24"/>
              </a:spcBef>
              <a:spcAft>
                <a:spcPts val="224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жная составная часть диеты человека и живот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24"/>
              </a:spcBef>
              <a:spcAft>
                <a:spcPts val="224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нспорт некоторы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итамин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нутри организм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24"/>
              </a:spcBef>
              <a:spcAft>
                <a:spcPts val="224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уляторы транспорта воды и сол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24"/>
              </a:spcBef>
              <a:spcAft>
                <a:spcPts val="224"/>
              </a:spcAft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муномодулятор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24"/>
              </a:spcBef>
              <a:spcAft>
                <a:spcPts val="224"/>
              </a:spcAft>
              <a:buSzPct val="100000"/>
              <a:buBlip>
                <a:blip r:embed="rId9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уляторы активности некоторых фермент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24"/>
              </a:spcBef>
              <a:spcAft>
                <a:spcPts val="224"/>
              </a:spcAft>
              <a:buSzPct val="100000"/>
              <a:buBlip>
                <a:blip r:embed="rId10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ндогормо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24"/>
              </a:spcBef>
              <a:spcAft>
                <a:spcPts val="224"/>
              </a:spcAft>
              <a:buSzPct val="100000"/>
              <a:buBlip>
                <a:blip r:embed="rId1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атчики биологических сигнал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89000" y="115920"/>
            <a:ext cx="9715320" cy="73152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079280"/>
            <a:ext cx="47167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В состав жира входят эфиры высших жирных кислот и трехатомного спирта — глицер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5940360" y="2774880"/>
            <a:ext cx="3119400" cy="2625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6659640" y="1863720"/>
            <a:ext cx="1780920" cy="657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84320" y="115920"/>
            <a:ext cx="9724680" cy="7315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824000" y="622080"/>
            <a:ext cx="4535640" cy="58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По другому глицерин называют </a:t>
            </a:r>
            <a:r>
              <a:rPr b="0" i="1" lang="ru-RU" sz="4000" spc="-1" strike="noStrike">
                <a:solidFill>
                  <a:srgbClr val="0000ff"/>
                </a:solidFill>
                <a:latin typeface="Comic Sans MS"/>
              </a:rPr>
              <a:t>триглицери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1260360" y="1517760"/>
            <a:ext cx="3240360" cy="2262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079640" y="4140360"/>
            <a:ext cx="37796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а триглицер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калы R1, R2 и R3 жирных кислот могут быть различ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792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60360" y="712800"/>
            <a:ext cx="9215280" cy="60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родные жиры содержат следующие жирные кислоты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Насыщенны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стеариновая (C17H35COO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маргариновая (C16H33COO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альмитиновая (C15H31COO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Ненасыщенны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альмитолеиновая (C15H29COOH, 1 двойная связ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олеиновая (C17H33COOH, 1 двойная связ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линолевая (C17H31COOH, 2 двойные связ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линоленовая (C17H29COOH, 3 двойные связ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арахидоновая (C19H31COOH, 4 двойные связи, реже встречается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792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7272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жирных кислот некоторых </a:t>
            </a:r>
            <a:br>
              <a:rPr sz="3600"/>
            </a:br>
            <a:r>
              <a:rPr b="1" lang="ru-RU" sz="36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растительных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жиров и масел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1419120" y="1619280"/>
            <a:ext cx="7220160" cy="5430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1340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жирных кислот некоторых </a:t>
            </a:r>
            <a:br>
              <a:rPr sz="3600"/>
            </a:br>
            <a:r>
              <a:rPr b="1" lang="ru-RU" sz="3600" spc="-1" strike="noStrike" u="sng">
                <a:solidFill>
                  <a:srgbClr val="003399"/>
                </a:solidFill>
                <a:uFillTx/>
                <a:latin typeface="Arial"/>
              </a:rPr>
              <a:t>живот</a:t>
            </a:r>
            <a:r>
              <a:rPr b="1" lang="ru-RU" sz="36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ных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жиров и масел: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1333440" y="1768320"/>
            <a:ext cx="7410600" cy="4989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rm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0:34:17Z</dcterms:created>
  <dc:creator/>
  <dc:description/>
  <dc:language>en-US</dc:language>
  <cp:lastModifiedBy>XP GAME 2010</cp:lastModifiedBy>
  <dcterms:modified xsi:type="dcterms:W3CDTF">2012-11-30T10:08:58Z</dcterms:modified>
  <cp:revision>6</cp:revision>
  <dc:subject/>
  <dc:title>Метаболизм  липидов.</dc:title>
</cp:coreProperties>
</file>